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4315-989F-4A77-B013-275B9A4B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1DB9-225F-4B5E-BBC6-6ED04242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76ACB-1A92-4785-8371-E3ACE1EB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CD79-9C66-492F-87A8-89D3EDAA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15E0-1BEC-46B9-87F7-C43CF89A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D86F-7AF7-4218-A637-BED7B66B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3159-CF15-4D07-AA5C-58CFA83F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FBBE-87EA-484D-B82A-874B835D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6CCF-E1BE-4999-8CAF-E17B115B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D717-0E75-487A-99A6-335A5A47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02F2-1989-47ED-A68F-236FD6F1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AEBD1-D440-474B-AE17-45E62775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23DC-D59F-41B5-B6B3-593D5C5B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B695-B071-49DF-9F1B-FC3A5659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2149-2386-4375-9221-A3EC4ECD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A21F-6881-4D8F-B361-2FB590F2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A7DF-9F82-414E-A596-0C94F393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E042-AC9D-49D5-A743-5F706285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736F-8D37-4128-97EE-CFE7D65D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C644-290C-4EC4-BF4C-BFF6458F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7B19C-DDD5-4AAE-8108-774AB498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B427E-7CC8-4A26-A740-DA7C7B3C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7CE2A-5790-4553-AECC-1BFB159C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347B-30FA-4016-881E-C7FC3B68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4E8A-5FDC-443D-A99C-ADFB1F3325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011B-CF00-48C3-94DB-EAB14C349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板橋区</a:t>
            </a: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環境マネジメントシステム再構築</a:t>
            </a:r>
            <a:br>
              <a:rPr sz="2800"/>
            </a:br>
            <a:r>
              <a:rPr b="1" lang="zh-TW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支援業務委託</a:t>
            </a: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企画提案書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・提案書（副本）に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様式２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3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FFA1-F2FB-4E63-BAB8-D245B9B1448B}" type="slidenum"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羽鳥 雄祐</cp:lastModifiedBy>
  <cp:lastPrinted>2020-01-07T04:53:42Z</cp:lastPrinted>
  <dcterms:modified xsi:type="dcterms:W3CDTF">2024-03-27T01:13:58Z</dcterms:modified>
  <cp:revision>78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